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carscreech.wav" ContentType="audio/x-wav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C5D4-6125-4CD7-8D9F-B0A64A1C2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6103-5882-48BA-9D90-5A72411FF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2200-1AFC-4DBE-875D-84E417B42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3785-72D9-43DC-B3C3-A8E7B478E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1C4F-A7FA-457A-95FB-F16CE36E0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B598-7E18-4765-B9E5-F78CF6F0D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AFA3-896E-4243-A9F0-8C87083B6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9550-166E-4FD8-849B-5E3F2483B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2AB5-6DB1-491D-B295-70193D43C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0E68-68EE-42AA-8C82-C097E9BED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401E-0428-4263-8227-BDCC62C63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9723-DE2D-4A35-B76C-9E0AC3DCE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D454E-47A9-4A41-A19D-3AE68A498D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made-in-china.com/showimages/111/300003884/0/Lead_Acid_Battery_For_Automobile_(DIN_75)_-_6-QA-66T.jpg&amp;imgrefurl=http://www.made-in-china.com/products/show/premium/TAwMDA5ODIzM/TAwMDA1Mjk5M/3/Electrical_Electronics_Lead_Acid_Battery_For_Automobile_(DIN_75)_-_6-QA-66T.html&amp;h=288&amp;w=288&amp;sz=34&amp;tbnid=qhkev1Cb1tUx6M:&amp;tbnh=110&amp;tbnw=110&amp;hl=en&amp;start=7&amp;prev=/images%3Fq%3Dcar%2Bbattery%26svnum%3D10%26hl%3Den%26lr%3D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images.google.co.uk/imgres?imgurl=http://www.autodirectsave.com/images/undercar2.jpg&amp;imgrefurl=http://www.autodirectsave.com/under_car_neon_light_lights.asp&amp;h=300&amp;w=400&amp;sz=9&amp;tbnid=HhS5y7n9n1WCdM:&amp;tbnh=90&amp;tbnw=120&amp;hl=en&amp;start=4&amp;prev=/images%3Fq%3Dcar%2Blights%26svnum%3D10%26hl%3Den%26lr%3D" TargetMode="External"/><Relationship Id="rId4" Type="http://schemas.openxmlformats.org/officeDocument/2006/relationships/image" Target="../media/image3.jpeg"/><Relationship Id="rId5" Type="http://schemas.openxmlformats.org/officeDocument/2006/relationships/hyperlink" Target="http://images.google.co.uk/imgres?imgurl=http://www.clipartreview.com/_gallery/_LG/1386039.jpg&amp;imgrefurl=http://www.clipartreview.com/_gallery/_pages/1386039.html&amp;h=337&amp;w=350&amp;sz=31&amp;tbnid=Ofrf9vnJDIQQQM:&amp;tbnh=111&amp;tbnw=116&amp;hl=en&amp;start=8&amp;prev=/images%3Fq%3Dcar%2Bbrakes%26svnum%3D10%26hl%3Den%26lr%3D" TargetMode="External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image" Target="../media/image6.jpeg"/><Relationship Id="rId9" Type="http://schemas.openxmlformats.org/officeDocument/2006/relationships/image" Target="../media/image7.jpeg"/><Relationship Id="rId10" Type="http://schemas.openxmlformats.org/officeDocument/2006/relationships/audio" Target="../media/carscreech.wav"/><Relationship Id="rId1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made-in-china.com/showimages/111/300003884/0/Lead_Acid_Battery_For_Automobile_(DIN_75)_-_6-QA-66T.jpg&amp;imgrefurl=http://www.made-in-china.com/products/show/premium/TAwMDA5ODIzM/TAwMDA1Mjk5M/3/Electrical_Electronics_Lead_Acid_Battery_For_Automobile_(DIN_75)_-_6-QA-66T.html&amp;h=288&amp;w=288&amp;sz=34&amp;tbnid=qhkev1Cb1tUx6M:&amp;tbnh=110&amp;tbnw=110&amp;hl=en&amp;start=7&amp;prev=/images%3Fq%3Dcar%2Bbattery%26svnum%3D10%26hl%3Den%26lr%3D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images.google.co.uk/imgres?imgurl=http://www.clipartreview.com/_gallery/_LG/1386039.jpg&amp;imgrefurl=http://www.clipartreview.com/_gallery/_pages/1386039.html&amp;h=337&amp;w=350&amp;sz=31&amp;tbnid=Ofrf9vnJDIQQQM:&amp;tbnh=111&amp;tbnw=116&amp;hl=en&amp;start=8&amp;prev=/images%3Fq%3Dcar%2Bbrakes%26svnum%3D10%26hl%3Den%26lr%3D" TargetMode="External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audio" Target="../media/carscreech.wav"/><Relationship Id="rId9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made-in-china.com/showimages/111/300003884/0/Lead_Acid_Battery_For_Automobile_(DIN_75)_-_6-QA-66T.jpg&amp;imgrefurl=http://www.made-in-china.com/products/show/premium/TAwMDA5ODIzM/TAwMDA1Mjk5M/3/Electrical_Electronics_Lead_Acid_Battery_For_Automobile_(DIN_75)_-_6-QA-66T.html&amp;h=288&amp;w=288&amp;sz=34&amp;tbnid=qhkev1Cb1tUx6M:&amp;tbnh=110&amp;tbnw=110&amp;hl=en&amp;start=7&amp;prev=/images%3Fq%3Dcar%2Bbattery%26svnum%3D10%26hl%3Den%26lr%3D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images.google.co.uk/imgres?imgurl=http://www.autodirectsave.com/images/undercar2.jpg&amp;imgrefurl=http://www.autodirectsave.com/under_car_neon_light_lights.asp&amp;h=300&amp;w=400&amp;sz=9&amp;tbnid=HhS5y7n9n1WCdM:&amp;tbnh=90&amp;tbnw=120&amp;hl=en&amp;start=4&amp;prev=/images%3Fq%3Dcar%2Blights%26svnum%3D10%26hl%3Den%26lr%3D" TargetMode="External"/><Relationship Id="rId4" Type="http://schemas.openxmlformats.org/officeDocument/2006/relationships/image" Target="../media/image3.jpeg"/><Relationship Id="rId5" Type="http://schemas.openxmlformats.org/officeDocument/2006/relationships/hyperlink" Target="http://images.google.co.uk/imgres?imgurl=http://www.clipartreview.com/_gallery/_LG/1386039.jpg&amp;imgrefurl=http://www.clipartreview.com/_gallery/_pages/1386039.html&amp;h=337&amp;w=350&amp;sz=31&amp;tbnid=Ofrf9vnJDIQQQM:&amp;tbnh=111&amp;tbnw=116&amp;hl=en&amp;start=8&amp;prev=/images%3Fq%3Dcar%2Bbrakes%26svnum%3D10%26hl%3Den%26lr%3D" TargetMode="External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image" Target="../media/image7.jpeg"/><Relationship Id="rId9" Type="http://schemas.openxmlformats.org/officeDocument/2006/relationships/audio" Target="../media/carscreech.wav"/><Relationship Id="rId10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audio" Target="../media/carscreech.wav"/><Relationship Id="rId7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492360" y="1413000"/>
            <a:ext cx="2202120" cy="41846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258920" y="5445000"/>
            <a:ext cx="662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mic Sans MS"/>
              </a:rPr>
              <a:t>Objetivos:  Recognise the vocabulary for car 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076720" y="404640"/>
            <a:ext cx="295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mic Sans MS"/>
              </a:rPr>
              <a:t>Lunes el 3 de ju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mic Sans MS"/>
              </a:rPr>
              <a:t>Tengo un probl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A: Tengo un ___________con el co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Comic Sans MS"/>
                <a:ea typeface="Arial"/>
              </a:rPr>
              <a:t>B: ¿Qué le pas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A: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Tengo un pinchaz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Comic Sans MS"/>
                <a:ea typeface="Arial"/>
              </a:rPr>
              <a:t>B: ¿Dónde está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A: Estoy en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la autopista A2 cerca de Mad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Comic Sans MS"/>
                <a:ea typeface="Arial"/>
              </a:rPr>
              <a:t>B: ¿De qué marca es su coch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A: Un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Merce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Comic Sans MS"/>
                <a:ea typeface="Arial"/>
              </a:rPr>
              <a:t>B: ¿De qué color es su coch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A: Es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az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B</a:t>
            </a:r>
            <a:r>
              <a:rPr b="1" lang="en-US" sz="1800" spc="-1" strike="noStrike">
                <a:solidFill>
                  <a:srgbClr val="ff0066"/>
                </a:solidFill>
                <a:latin typeface="Comic Sans MS"/>
                <a:ea typeface="Arial"/>
              </a:rPr>
              <a:t>: ¿Y la matrícul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A: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2195 BL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Comic Sans MS"/>
                <a:ea typeface="Arial"/>
              </a:rPr>
              <a:t>B: Llegamos en segu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mic Sans MS"/>
              </a:rPr>
              <a:t>Tengo un probl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A: Tengo un ___________con el co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Comic Sans MS"/>
                <a:ea typeface="Arial"/>
              </a:rPr>
              <a:t>B: ¿Qué le pas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A: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Tengo un pinchaz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Comic Sans MS"/>
                <a:ea typeface="Arial"/>
              </a:rPr>
              <a:t>B: ¿Dónde está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A: Estoy en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la autopista A2 cerca de Mad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Comic Sans MS"/>
                <a:ea typeface="Arial"/>
              </a:rPr>
              <a:t>B: ¿De qué ________es su coch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A: Un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Merce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Comic Sans MS"/>
                <a:ea typeface="Arial"/>
              </a:rPr>
              <a:t>B: ¿De qué color es su coch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A: Es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az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B</a:t>
            </a:r>
            <a:r>
              <a:rPr b="1" lang="en-US" sz="1800" spc="-1" strike="noStrike">
                <a:solidFill>
                  <a:srgbClr val="ff0066"/>
                </a:solidFill>
                <a:latin typeface="Comic Sans MS"/>
                <a:ea typeface="Arial"/>
              </a:rPr>
              <a:t>: ¿Y la matrícul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A: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2195 BL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Comic Sans MS"/>
                <a:ea typeface="Arial"/>
              </a:rPr>
              <a:t>B: Llegamos en segu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mic Sans MS"/>
              </a:rPr>
              <a:t>Tengo un probl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A: Tengo un ___________con el co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Comic Sans MS"/>
                <a:ea typeface="Arial"/>
              </a:rPr>
              <a:t>B: ¿Qué le pas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A: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Tengo un pinchaz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Comic Sans MS"/>
                <a:ea typeface="Arial"/>
              </a:rPr>
              <a:t>B: ¿Dónde está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A: Estoy en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la autopista A2 cerca de Mad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Comic Sans MS"/>
                <a:ea typeface="Arial"/>
              </a:rPr>
              <a:t>B: ¿De qué ________es su coch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A: Un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Merce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Comic Sans MS"/>
                <a:ea typeface="Arial"/>
              </a:rPr>
              <a:t>B: ¿De qué color es su coch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A: Es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az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B</a:t>
            </a:r>
            <a:r>
              <a:rPr b="1" lang="en-US" sz="1800" spc="-1" strike="noStrike">
                <a:solidFill>
                  <a:srgbClr val="ff0066"/>
                </a:solidFill>
                <a:latin typeface="Comic Sans MS"/>
                <a:ea typeface="Arial"/>
              </a:rPr>
              <a:t>: ¿Y la_________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A: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2195 BL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Comic Sans MS"/>
                <a:ea typeface="Arial"/>
              </a:rPr>
              <a:t>B: Llegamos en segu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mic Sans MS"/>
              </a:rPr>
              <a:t>Tengo un probl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A: Tengo un ___________con el co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Comic Sans MS"/>
                <a:ea typeface="Arial"/>
              </a:rPr>
              <a:t>B: ¿Qué le pas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A: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Tengo un___________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Comic Sans MS"/>
                <a:ea typeface="Arial"/>
              </a:rPr>
              <a:t>B: ¿Dónde está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A: Estoy en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la autopista A2 cerca de Mad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Comic Sans MS"/>
                <a:ea typeface="Arial"/>
              </a:rPr>
              <a:t>B: ¿De qué ________es su coch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A: Un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Merce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Comic Sans MS"/>
                <a:ea typeface="Arial"/>
              </a:rPr>
              <a:t>B: ¿De qué color es su coch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A: Es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az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B</a:t>
            </a:r>
            <a:r>
              <a:rPr b="1" lang="en-US" sz="1800" spc="-1" strike="noStrike">
                <a:solidFill>
                  <a:srgbClr val="ff0066"/>
                </a:solidFill>
                <a:latin typeface="Comic Sans MS"/>
                <a:ea typeface="Arial"/>
              </a:rPr>
              <a:t>: ¿Y la_________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A: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2195 BL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Comic Sans MS"/>
                <a:ea typeface="Arial"/>
              </a:rPr>
              <a:t>B: Llegamos en segu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mic Sans MS"/>
              </a:rPr>
              <a:t>Tengo un probl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A: Tengo un ___________con el co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Comic Sans MS"/>
                <a:ea typeface="Arial"/>
              </a:rPr>
              <a:t>B: ¿Qué le pas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A: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Tengo un___________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Comic Sans MS"/>
                <a:ea typeface="Arial"/>
              </a:rPr>
              <a:t>B: ¿Dónde está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A: Estoy en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la ________A2 cerca de Mad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Comic Sans MS"/>
                <a:ea typeface="Arial"/>
              </a:rPr>
              <a:t>B: ¿De qué ________es su coch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A: Un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Merce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Comic Sans MS"/>
                <a:ea typeface="Arial"/>
              </a:rPr>
              <a:t>B: ¿De qué color es su coch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A: Es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az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B</a:t>
            </a:r>
            <a:r>
              <a:rPr b="1" lang="en-US" sz="1800" spc="-1" strike="noStrike">
                <a:solidFill>
                  <a:srgbClr val="ff0066"/>
                </a:solidFill>
                <a:latin typeface="Comic Sans MS"/>
                <a:ea typeface="Arial"/>
              </a:rPr>
              <a:t>: ¿Y la_________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A: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2195 BL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Comic Sans MS"/>
                <a:ea typeface="Arial"/>
              </a:rPr>
              <a:t>B: Llegamos en segu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mic Sans MS"/>
              </a:rPr>
              <a:t>Tengo un probl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A: Tengo un ___________con el co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Comic Sans MS"/>
                <a:ea typeface="Arial"/>
              </a:rPr>
              <a:t>B: ¿Qué le pas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A: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Tengo un___________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Comic Sans MS"/>
                <a:ea typeface="Arial"/>
              </a:rPr>
              <a:t>B: ¿Dónde__________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A: Estoy en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la ________A2 cerca de Mad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Comic Sans MS"/>
                <a:ea typeface="Arial"/>
              </a:rPr>
              <a:t>B: ¿De qué ________es su coch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A: Un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Merce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Comic Sans MS"/>
                <a:ea typeface="Arial"/>
              </a:rPr>
              <a:t>B: ¿De qué color es su coch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A: Es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az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B</a:t>
            </a:r>
            <a:r>
              <a:rPr b="1" lang="en-US" sz="1800" spc="-1" strike="noStrike">
                <a:solidFill>
                  <a:srgbClr val="ff0066"/>
                </a:solidFill>
                <a:latin typeface="Comic Sans MS"/>
                <a:ea typeface="Arial"/>
              </a:rPr>
              <a:t>: ¿Y la_________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A: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2195 BL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Comic Sans MS"/>
                <a:ea typeface="Arial"/>
              </a:rPr>
              <a:t>B: Llegamos en segu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mic Sans MS"/>
              </a:rPr>
              <a:t>Tengo un probl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A: Tengo un ___________con el co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Comic Sans MS"/>
                <a:ea typeface="Arial"/>
              </a:rPr>
              <a:t>B: ¿Qué le pas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A: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Tengo un___________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Comic Sans MS"/>
                <a:ea typeface="Arial"/>
              </a:rPr>
              <a:t>B: ¿Dónde__________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A: Estoy en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la ________A2 cerca de Mad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Comic Sans MS"/>
                <a:ea typeface="Arial"/>
              </a:rPr>
              <a:t>B: ¿De qué ________es su coch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A: Un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Merce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Comic Sans MS"/>
                <a:ea typeface="Arial"/>
              </a:rPr>
              <a:t>B: ¿De qué color es su_________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A: Es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az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B</a:t>
            </a:r>
            <a:r>
              <a:rPr b="1" lang="en-US" sz="1800" spc="-1" strike="noStrike">
                <a:solidFill>
                  <a:srgbClr val="ff0066"/>
                </a:solidFill>
                <a:latin typeface="Comic Sans MS"/>
                <a:ea typeface="Arial"/>
              </a:rPr>
              <a:t>: ¿Y la_________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A: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2195 BL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Comic Sans MS"/>
                <a:ea typeface="Arial"/>
              </a:rPr>
              <a:t>B: Llegamos en segu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mic Sans MS"/>
              </a:rPr>
              <a:t>Tengo un probl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A: Tengo un ___________con el co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Comic Sans MS"/>
                <a:ea typeface="Arial"/>
              </a:rPr>
              <a:t>B: ¿Qué le pas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A: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Tengo un___________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Comic Sans MS"/>
                <a:ea typeface="Arial"/>
              </a:rPr>
              <a:t>B: ¿Dónde__________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A: _________en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la ________A2 cerca de Mad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Comic Sans MS"/>
                <a:ea typeface="Arial"/>
              </a:rPr>
              <a:t>B: ¿De qué ________es su coch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A: Un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Merce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Comic Sans MS"/>
                <a:ea typeface="Arial"/>
              </a:rPr>
              <a:t>B: ¿De qué color es su_________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A: Es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az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B</a:t>
            </a:r>
            <a:r>
              <a:rPr b="1" lang="en-US" sz="1800" spc="-1" strike="noStrike">
                <a:solidFill>
                  <a:srgbClr val="ff0066"/>
                </a:solidFill>
                <a:latin typeface="Comic Sans MS"/>
                <a:ea typeface="Arial"/>
              </a:rPr>
              <a:t>: ¿Y la_________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A: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2195 BL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Comic Sans MS"/>
                <a:ea typeface="Arial"/>
              </a:rPr>
              <a:t>B: Llegamos en segu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mic Sans MS"/>
              </a:rPr>
              <a:t>Tengo un probl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A: Tengo un ___________con el co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Comic Sans MS"/>
                <a:ea typeface="Arial"/>
              </a:rPr>
              <a:t>B: ¿Qué le pas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A: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Tengo un___________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Comic Sans MS"/>
                <a:ea typeface="Arial"/>
              </a:rPr>
              <a:t>B: ¿Dónde__________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A: _________en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la ________A2 cerca de Mad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Comic Sans MS"/>
                <a:ea typeface="Arial"/>
              </a:rPr>
              <a:t>B: ¿De qué ________es su coch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A: Un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Merce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Comic Sans MS"/>
                <a:ea typeface="Arial"/>
              </a:rPr>
              <a:t>B: ¿De qué ________es su_________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A: Es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az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B</a:t>
            </a:r>
            <a:r>
              <a:rPr b="1" lang="en-US" sz="1800" spc="-1" strike="noStrike">
                <a:solidFill>
                  <a:srgbClr val="ff0066"/>
                </a:solidFill>
                <a:latin typeface="Comic Sans MS"/>
                <a:ea typeface="Arial"/>
              </a:rPr>
              <a:t>: ¿Y la_________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A: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2195 BL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Comic Sans MS"/>
                <a:ea typeface="Arial"/>
              </a:rPr>
              <a:t>B: Llegamos en segu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mic Sans MS"/>
              </a:rPr>
              <a:t>Tengo un probl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A: Tengo un ___________con el co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Comic Sans MS"/>
                <a:ea typeface="Arial"/>
              </a:rPr>
              <a:t>B: ¿Qué le pas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A: ________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un___________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Comic Sans MS"/>
                <a:ea typeface="Arial"/>
              </a:rPr>
              <a:t>B: ¿Dónde__________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A: _________en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la ________A2 cerca de Mad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Comic Sans MS"/>
                <a:ea typeface="Arial"/>
              </a:rPr>
              <a:t>B: ¿De qué ________es su coch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A: Un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Merce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Comic Sans MS"/>
                <a:ea typeface="Arial"/>
              </a:rPr>
              <a:t>B: ¿De qué ________es su_________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A: Es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az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B</a:t>
            </a:r>
            <a:r>
              <a:rPr b="1" lang="en-US" sz="1800" spc="-1" strike="noStrike">
                <a:solidFill>
                  <a:srgbClr val="ff0066"/>
                </a:solidFill>
                <a:latin typeface="Comic Sans MS"/>
                <a:ea typeface="Arial"/>
              </a:rPr>
              <a:t>: ¿Y la_________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A: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2195 BL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Comic Sans MS"/>
                <a:ea typeface="Arial"/>
              </a:rPr>
              <a:t>B: Llegamos en segu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124000" y="476280"/>
            <a:ext cx="619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mic Sans MS"/>
              </a:rPr>
              <a:t>En la carretera – el vocabul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125360"/>
            <a:ext cx="4067280" cy="50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333399"/>
                </a:solidFill>
                <a:latin typeface="Comic Sans MS"/>
              </a:rPr>
              <a:t>Mi coche tiene una aver</a:t>
            </a:r>
            <a:r>
              <a:rPr b="1" lang="en-US" sz="2500" spc="-1" strike="noStrike">
                <a:solidFill>
                  <a:srgbClr val="333399"/>
                </a:solidFill>
                <a:latin typeface="Comic Sans MS"/>
                <a:ea typeface="Arial"/>
              </a:rPr>
              <a:t>í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333399"/>
                </a:solidFill>
                <a:latin typeface="Comic Sans MS"/>
                <a:ea typeface="Arial"/>
              </a:rPr>
              <a:t>Tengo un pinchaz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333399"/>
                </a:solidFill>
                <a:latin typeface="Comic Sans MS"/>
                <a:ea typeface="Arial"/>
              </a:rPr>
              <a:t>Tengo un problema con la baterí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333399"/>
                </a:solidFill>
                <a:latin typeface="Comic Sans MS"/>
                <a:ea typeface="Arial"/>
              </a:rPr>
              <a:t>Las luces no funciona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333399"/>
                </a:solidFill>
                <a:latin typeface="Comic Sans MS"/>
                <a:ea typeface="Arial"/>
              </a:rPr>
              <a:t>Se ha roto el parabrisa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333399"/>
                </a:solidFill>
                <a:latin typeface="Comic Sans MS"/>
                <a:ea typeface="Arial"/>
              </a:rPr>
              <a:t>Los frenos no funciona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27640" y="1052640"/>
            <a:ext cx="4716360" cy="70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My car has broken dow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I have a punctur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I have a problem with the batter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The lights do not work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The windscreen is broke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The breaks do not work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77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" dur="77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2" dur="77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4" dur="77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385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9" dur="385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1" dur="385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3" dur="385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5" dur="500"/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mic Sans MS"/>
              </a:rPr>
              <a:t>Tengo un probl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A: Tengo un ___________con el co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Comic Sans MS"/>
                <a:ea typeface="Arial"/>
              </a:rPr>
              <a:t>B: ¿Qué le______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A: ________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un___________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Comic Sans MS"/>
                <a:ea typeface="Arial"/>
              </a:rPr>
              <a:t>B: ¿Dónde__________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A: _________en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la ________A2 cerca de Mad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Comic Sans MS"/>
                <a:ea typeface="Arial"/>
              </a:rPr>
              <a:t>B: ¿De qué ________es su coch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A: Un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Merce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Comic Sans MS"/>
                <a:ea typeface="Arial"/>
              </a:rPr>
              <a:t>B: ¿De qué ________es su_________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A: Es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az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B</a:t>
            </a:r>
            <a:r>
              <a:rPr b="1" lang="en-US" sz="1800" spc="-1" strike="noStrike">
                <a:solidFill>
                  <a:srgbClr val="ff0066"/>
                </a:solidFill>
                <a:latin typeface="Comic Sans MS"/>
                <a:ea typeface="Arial"/>
              </a:rPr>
              <a:t>: ¿Y la_________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A: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2195 BL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Comic Sans MS"/>
                <a:ea typeface="Arial"/>
              </a:rPr>
              <a:t>B: Llegamos en segu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mic Sans MS"/>
              </a:rPr>
              <a:t>Tengo un probl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A: Tengo un ___________con el co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Comic Sans MS"/>
                <a:ea typeface="Arial"/>
              </a:rPr>
              <a:t>B: ¿Qué le______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A: ________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un___________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Comic Sans MS"/>
                <a:ea typeface="Arial"/>
              </a:rPr>
              <a:t>B: ¿Dónde__________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A: _________en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la ________A2 cerca de Mad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Comic Sans MS"/>
                <a:ea typeface="Arial"/>
              </a:rPr>
              <a:t>B: ¿De qué ________es su________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A: Un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Merce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Comic Sans MS"/>
                <a:ea typeface="Arial"/>
              </a:rPr>
              <a:t>B: ¿De qué ________es su_________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A: Es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az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B</a:t>
            </a:r>
            <a:r>
              <a:rPr b="1" lang="en-US" sz="1800" spc="-1" strike="noStrike">
                <a:solidFill>
                  <a:srgbClr val="ff0066"/>
                </a:solidFill>
                <a:latin typeface="Comic Sans MS"/>
                <a:ea typeface="Arial"/>
              </a:rPr>
              <a:t>: ¿Y la_________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A: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2195 BL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Comic Sans MS"/>
                <a:ea typeface="Arial"/>
              </a:rPr>
              <a:t>B: Llegamos en segu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mic Sans MS"/>
              </a:rPr>
              <a:t>Tengo un probl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A: Tengo un ___________con el co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Comic Sans MS"/>
                <a:ea typeface="Arial"/>
              </a:rPr>
              <a:t>B: ¿Qué le______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A: ________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un___________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Comic Sans MS"/>
                <a:ea typeface="Arial"/>
              </a:rPr>
              <a:t>B: ¿Dónde__________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A: _________en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la ________A2 _______de Mad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Comic Sans MS"/>
                <a:ea typeface="Arial"/>
              </a:rPr>
              <a:t>B: ¿De qué ________es su________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A: Un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Merce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Comic Sans MS"/>
                <a:ea typeface="Arial"/>
              </a:rPr>
              <a:t>B: ¿De qué ________es su_________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A: Es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az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B</a:t>
            </a:r>
            <a:r>
              <a:rPr b="1" lang="en-US" sz="1800" spc="-1" strike="noStrike">
                <a:solidFill>
                  <a:srgbClr val="ff0066"/>
                </a:solidFill>
                <a:latin typeface="Comic Sans MS"/>
                <a:ea typeface="Arial"/>
              </a:rPr>
              <a:t>: ¿Y la_________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A: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2195 BL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Comic Sans MS"/>
                <a:ea typeface="Arial"/>
              </a:rPr>
              <a:t>B: Llegamos en segu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mic Sans MS"/>
              </a:rPr>
              <a:t>Tengo un probl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A: Tengo un ___________con el co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Comic Sans MS"/>
                <a:ea typeface="Arial"/>
              </a:rPr>
              <a:t>B: ¿Qué le______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A: ________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un___________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Comic Sans MS"/>
                <a:ea typeface="Arial"/>
              </a:rPr>
              <a:t>B: ¿Dónde__________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A: _________en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la ________A2 _______de Mad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Comic Sans MS"/>
                <a:ea typeface="Arial"/>
              </a:rPr>
              <a:t>B: ¿De qué ________es su________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A: Un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Merce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Comic Sans MS"/>
                <a:ea typeface="Arial"/>
              </a:rPr>
              <a:t>B: ¿De qué ________es su_________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A: Es 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B</a:t>
            </a:r>
            <a:r>
              <a:rPr b="1" lang="en-US" sz="1800" spc="-1" strike="noStrike">
                <a:solidFill>
                  <a:srgbClr val="ff0066"/>
                </a:solidFill>
                <a:latin typeface="Comic Sans MS"/>
                <a:ea typeface="Arial"/>
              </a:rPr>
              <a:t>: ¿Y la_________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A: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2195 BL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Comic Sans MS"/>
                <a:ea typeface="Arial"/>
              </a:rPr>
              <a:t>B: Llegamos en segu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mic Sans MS"/>
              </a:rPr>
              <a:t>Tengo un probl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A: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499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Comic Sans MS"/>
                <a:ea typeface="Arial"/>
              </a:rPr>
              <a:t>B: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499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Comic Sans MS"/>
                <a:ea typeface="Arial"/>
              </a:rPr>
              <a:t>B: Wher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A: A2 Mad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499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Comic Sans MS"/>
                <a:ea typeface="Arial"/>
              </a:rPr>
              <a:t>B: Mak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A: Merce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499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Comic Sans MS"/>
                <a:ea typeface="Arial"/>
              </a:rPr>
              <a:t>B: Colou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A: 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B</a:t>
            </a:r>
            <a:r>
              <a:rPr b="1" lang="en-US" sz="2000" spc="-1" strike="noStrike">
                <a:solidFill>
                  <a:srgbClr val="ff0066"/>
                </a:solidFill>
                <a:latin typeface="Comic Sans MS"/>
                <a:ea typeface="Arial"/>
              </a:rPr>
              <a:t>: Re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A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2195 BL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499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Comic Sans MS"/>
                <a:ea typeface="Arial"/>
              </a:rPr>
              <a:t>B: Arrive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476360" y="1844640"/>
            <a:ext cx="792000" cy="5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mic Sans MS"/>
              </a:rPr>
              <a:t>En la carret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659640" y="1197000"/>
            <a:ext cx="1704960" cy="19447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26920" y="3933720"/>
            <a:ext cx="1800360" cy="13510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V="1">
            <a:off x="1187280" y="3860640"/>
            <a:ext cx="1295640" cy="1368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419640" y="1700280"/>
            <a:ext cx="2016000" cy="19288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7"/>
          <a:stretch/>
        </p:blipFill>
        <p:spPr>
          <a:xfrm>
            <a:off x="3203640" y="4724280"/>
            <a:ext cx="2619360" cy="1467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8"/>
          <a:stretch/>
        </p:blipFill>
        <p:spPr>
          <a:xfrm>
            <a:off x="395280" y="907920"/>
            <a:ext cx="2016000" cy="15130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9"/>
          <a:stretch/>
        </p:blipFill>
        <p:spPr>
          <a:xfrm>
            <a:off x="6659640" y="4076640"/>
            <a:ext cx="1871640" cy="18590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900000" y="3933720"/>
            <a:ext cx="1297080" cy="1224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u"/>
    <p:sndAc>
      <p:stSnd>
        <p:snd r:embed="rId10" name="carscreech.wav"/>
      </p:stSnd>
    </p:sndAc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385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1" dur="385" fill="hold"/>
                                        <p:tgtEl>
                                          <p:spTgt spid="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3" dur="385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5" dur="385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mic Sans MS"/>
              </a:rPr>
              <a:t>En la carretera</a:t>
            </a:r>
            <a:br>
              <a:rPr sz="2400"/>
            </a:br>
            <a:r>
              <a:rPr b="1" lang="en-US" sz="1600" spc="-1" strike="noStrike">
                <a:solidFill>
                  <a:srgbClr val="ff0000"/>
                </a:solidFill>
                <a:latin typeface="Comic Sans MS"/>
              </a:rPr>
              <a:t>¿Qué falt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51280" y="3716280"/>
            <a:ext cx="1704960" cy="19447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68360" y="981000"/>
            <a:ext cx="2016000" cy="19288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611280" y="3860640"/>
            <a:ext cx="2619360" cy="1467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6"/>
          <a:stretch/>
        </p:blipFill>
        <p:spPr>
          <a:xfrm>
            <a:off x="6084720" y="3933720"/>
            <a:ext cx="2016360" cy="15130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7"/>
          <a:stretch/>
        </p:blipFill>
        <p:spPr>
          <a:xfrm>
            <a:off x="5508720" y="1413000"/>
            <a:ext cx="1871640" cy="18586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u"/>
    <p:sndAc>
      <p:stSnd>
        <p:snd r:embed="rId8" name="carscreech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mic Sans MS"/>
              </a:rPr>
              <a:t>En la carretera</a:t>
            </a:r>
            <a:br>
              <a:rPr sz="2400"/>
            </a:br>
            <a:r>
              <a:rPr b="1" lang="en-GB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Comic Sans MS"/>
              </a:rPr>
              <a:t>¿Qué falt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16720" y="1341360"/>
            <a:ext cx="1704960" cy="19447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780000" y="2060640"/>
            <a:ext cx="1800000" cy="1350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 flipV="1">
            <a:off x="4067280" y="1915920"/>
            <a:ext cx="1295280" cy="1368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763640" y="4508640"/>
            <a:ext cx="2016360" cy="19285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7"/>
          <a:stretch/>
        </p:blipFill>
        <p:spPr>
          <a:xfrm>
            <a:off x="5292720" y="4797360"/>
            <a:ext cx="2619360" cy="1467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8"/>
          <a:stretch/>
        </p:blipFill>
        <p:spPr>
          <a:xfrm>
            <a:off x="1042920" y="1484280"/>
            <a:ext cx="1871640" cy="18590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067280" y="2060640"/>
            <a:ext cx="1296720" cy="1224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u"/>
    <p:sndAc>
      <p:stSnd>
        <p:snd r:embed="rId9" name="carscreech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mic Sans MS"/>
              </a:rPr>
              <a:t>En la carret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851280" y="2349360"/>
            <a:ext cx="1704960" cy="19447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6588000" y="1125360"/>
            <a:ext cx="1800360" cy="13510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 flipV="1">
            <a:off x="6877080" y="1052280"/>
            <a:ext cx="1295280" cy="1368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6227640" y="4005360"/>
            <a:ext cx="2619360" cy="14666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1403280" y="4149720"/>
            <a:ext cx="2016360" cy="15127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5"/>
          <a:stretch/>
        </p:blipFill>
        <p:spPr>
          <a:xfrm>
            <a:off x="1042920" y="1197000"/>
            <a:ext cx="1871640" cy="18590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6948360" y="1268280"/>
            <a:ext cx="1297080" cy="1224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u"/>
    <p:sndAc>
      <p:stSnd>
        <p:snd r:embed="rId6" name="carscreech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mic Sans MS"/>
              </a:rPr>
              <a:t>Tengo un probl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39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A: Tengo un problema con el coch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349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Comic Sans MS"/>
                <a:ea typeface="Arial"/>
              </a:rPr>
              <a:t>B: ¿Qué le pasa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A: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Tengo un pinchaz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349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Comic Sans MS"/>
                <a:ea typeface="Arial"/>
              </a:rPr>
              <a:t>B: ¿Dónde está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A: Estoy en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la autopista A2 cerca de Madr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349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Comic Sans MS"/>
                <a:ea typeface="Arial"/>
              </a:rPr>
              <a:t>B: ¿De qué marca es su coch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A: Un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Merce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349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Comic Sans MS"/>
                <a:ea typeface="Arial"/>
              </a:rPr>
              <a:t>B: ¿De qué color es su coch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A: Es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azu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B</a:t>
            </a:r>
            <a:r>
              <a:rPr b="1" lang="en-US" sz="1400" spc="-1" strike="noStrike">
                <a:solidFill>
                  <a:srgbClr val="ff0066"/>
                </a:solidFill>
                <a:latin typeface="Comic Sans MS"/>
                <a:ea typeface="Arial"/>
              </a:rPr>
              <a:t>: ¿Y la matrícula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A: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2195 BL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349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Comic Sans MS"/>
                <a:ea typeface="Arial"/>
              </a:rPr>
              <a:t>B: Llegamos en segu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Role pl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457200" y="1600200"/>
          <a:ext cx="8229600" cy="2919240"/>
        </p:xfrm>
        <a:graphic>
          <a:graphicData uri="http://schemas.openxmlformats.org/drawingml/2006/table">
            <a:tbl>
              <a:tblPr/>
              <a:tblGrid>
                <a:gridCol w="1666800"/>
                <a:gridCol w="1625760"/>
                <a:gridCol w="1644480"/>
                <a:gridCol w="1554120"/>
                <a:gridCol w="1738440"/>
              </a:tblGrid>
              <a:tr h="53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proble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loc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colo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mak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regist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unct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4 near madr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l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e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167 FD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ights don’t 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agu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284 SR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reaks don’t 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6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re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erced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471 FD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roken windscre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3 near Giro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in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aew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588 TPQ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mic Sans MS"/>
              </a:rPr>
              <a:t>Tengo un probl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A: Tengo un problema con el co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Comic Sans MS"/>
                <a:ea typeface="Arial"/>
              </a:rPr>
              <a:t>B: ¿Qué le pas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A: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Tengo un pinchaz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Comic Sans MS"/>
                <a:ea typeface="Arial"/>
              </a:rPr>
              <a:t>B: ¿Dónde está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A: Estoy en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la autopista A2 cerca de Mad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Comic Sans MS"/>
                <a:ea typeface="Arial"/>
              </a:rPr>
              <a:t>B: ¿De qué marca es su coch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A: Un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Merce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Comic Sans MS"/>
                <a:ea typeface="Arial"/>
              </a:rPr>
              <a:t>B: ¿De qué color es su coch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A: Es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az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B</a:t>
            </a:r>
            <a:r>
              <a:rPr b="1" lang="en-US" sz="1800" spc="-1" strike="noStrike">
                <a:solidFill>
                  <a:srgbClr val="ff0066"/>
                </a:solidFill>
                <a:latin typeface="Comic Sans MS"/>
                <a:ea typeface="Arial"/>
              </a:rPr>
              <a:t>: ¿Y la matrícul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A: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2195 BL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Comic Sans MS"/>
                <a:ea typeface="Arial"/>
              </a:rPr>
              <a:t>B: Llegamos en segu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5T18:51:29Z</dcterms:created>
  <dc:creator>Laptops For Teachers</dc:creator>
  <dc:description/>
  <dc:language>en-US</dc:language>
  <cp:lastModifiedBy>Owner1</cp:lastModifiedBy>
  <dcterms:modified xsi:type="dcterms:W3CDTF">2008-02-05T07:36:20Z</dcterms:modified>
  <cp:revision>14</cp:revision>
  <dc:subject/>
  <dc:title>Slide 1</dc:title>
</cp:coreProperties>
</file>